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D5C-25EA-4769-A964-F52E0FD5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D91-5A4A-433B-9F45-D97CFCF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441-FF55-46E3-BF76-4D430A94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A9B-D6E5-47E3-8A0B-A3B273DD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98B-35E8-4FB0-9D26-3ACCB9A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82A-84C7-41B4-B3C1-0749090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0C2-9ABF-4749-BE7F-4B9058B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896-BDAA-4BF3-8938-520698B1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653-1E34-43A4-A079-A7D86BE1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B87-D877-4F9C-B436-9BB56D9C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142-58F5-42DB-AB59-57E3A9F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246-E15F-4653-8489-4772A11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6E2-9885-4CFF-936E-2C9F21BA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ltshirewebconsultants.co.uk/~thegasco/artistgallery.php?artist_id=39&amp;artist_name=Picasso,%20Pablo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09960" y="228600"/>
            <a:ext cx="4924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571680"/>
            <a:ext cx="60199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ablo Picasso. Science and Charity."/>
          <p:cNvPicPr/>
          <p:nvPr/>
        </p:nvPicPr>
        <p:blipFill>
          <a:blip r:embed="rId1"/>
          <a:stretch/>
        </p:blipFill>
        <p:spPr>
          <a:xfrm>
            <a:off x="1119240" y="728640"/>
            <a:ext cx="6905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ablo Picasso. Tumblers (Mother and Son)."/>
          <p:cNvPicPr/>
          <p:nvPr/>
        </p:nvPicPr>
        <p:blipFill>
          <a:blip r:embed="rId1"/>
          <a:stretch/>
        </p:blipFill>
        <p:spPr>
          <a:xfrm>
            <a:off x="1990800" y="-9360"/>
            <a:ext cx="51624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0120" y="1038240"/>
            <a:ext cx="7943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ablo Picasso - Dans Letel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38560" y="380880"/>
            <a:ext cx="4466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4:56:31Z</dcterms:created>
  <dc:creator>Patrick J. Mooney</dc:creator>
  <dc:description/>
  <dc:language>en-US</dc:language>
  <cp:lastModifiedBy>Patrick J. Mooney</cp:lastModifiedBy>
  <dcterms:modified xsi:type="dcterms:W3CDTF">2010-01-19T15:15:42Z</dcterms:modified>
  <cp:revision>5</cp:revision>
  <dc:subject/>
  <dc:title>Slide 1</dc:title>
</cp:coreProperties>
</file>